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D57-5EF3-4BD1-A0BC-A2110646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D10-DC41-42E5-9C9B-0914305D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297-195A-4C07-AD3F-EF956FD6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9B1-7A1F-422C-B47E-40C379BF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867A-ACE3-41FB-847D-096A6ADE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CA54-E01C-4C60-807C-019D9D0B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C94D-788F-460F-BB3D-531063C9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E795-CEC2-4DF8-8E4B-F3F24154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B0C7-EA46-44A7-BDBA-E710C13E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3352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D7A7-BE9B-4201-8F1B-C42995E7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E63F-0C63-4533-B834-3875017A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39C-460C-4D59-8510-CD430384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E5E9-4F21-4A6C-9E4C-A17354BE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74FD-0705-44F2-A5F7-2E48DBA8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0823-EA6A-4F6D-A000-F4D23092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907A-1EAC-4209-BF03-7C1AC071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098B-CD52-4636-BEEC-32BED42E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D4C-8F6B-4061-AB27-7B473EBB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E60-9348-4AB6-8589-BB48B9FC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01F-A512-4DBD-A3BB-FBF3B246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352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A34-CFCF-460A-8BC1-FC50632A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1A3-2918-48C3-A2D3-3A6F62C1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84D-662F-489E-986B-5AB73F4F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AE7-61F8-42CF-AEED-3AB1493D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aa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ecfd8"/>
                  </a:gs>
                  <a:gs pos="100000">
                    <a:srgbClr val="6c71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4c4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4c4f60"/>
                  </a:gs>
                  <a:gs pos="50000">
                    <a:srgbClr val="a8abba"/>
                  </a:gs>
                  <a:gs pos="100000">
                    <a:srgbClr val="4c4f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4c4f60"/>
                  </a:gs>
                  <a:gs pos="50000">
                    <a:srgbClr val="a8abba"/>
                  </a:gs>
                  <a:gs pos="100000">
                    <a:srgbClr val="4c4f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ecfd8"/>
                  </a:gs>
                  <a:gs pos="100000">
                    <a:srgbClr val="6c71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8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4c4f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4c4f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4c4f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4c4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4c4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4c4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4c4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4c4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4c4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4c4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4c4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4c4f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ecfd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ecfd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ecfd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ecfd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ecfd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ecfd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ecfd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ecfd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ecfd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ecfd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ecf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4c4f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ecfd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4c4f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ecf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ecf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4c4f60"/>
                </a:gs>
                <a:gs pos="100000">
                  <a:srgbClr val="6c71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0cd5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ebcd5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ebcd5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ebcd5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ebcd5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ebcd5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E9DF-7485-4ACF-AA52-9DA4E8053D8A}" type="slidenum">
              <a:rPr b="0" i="1" lang="en-GB" sz="1400" spc="-1" strike="noStrike">
                <a:solidFill>
                  <a:srgbClr val="ebcd5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aa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6c7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6c7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ecfd8"/>
                  </a:gs>
                  <a:gs pos="100000">
                    <a:srgbClr val="6c71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6c7188"/>
                  </a:gs>
                  <a:gs pos="100000">
                    <a:srgbClr val="4c4f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4c4f60"/>
                  </a:gs>
                  <a:gs pos="50000">
                    <a:srgbClr val="a8abba"/>
                  </a:gs>
                  <a:gs pos="100000">
                    <a:srgbClr val="4c4f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4c4f60"/>
                  </a:gs>
                  <a:gs pos="50000">
                    <a:srgbClr val="a8abba"/>
                  </a:gs>
                  <a:gs pos="100000">
                    <a:srgbClr val="4c4f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ecfd8"/>
                  </a:gs>
                  <a:gs pos="100000">
                    <a:srgbClr val="6c71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8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4c4f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4c4f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4c4f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c4f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4c4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4c4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4c4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4c4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4c4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4c4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4c4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4c4f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4c4f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ecfd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ecfd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ecfd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ecfd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ecfd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ecfd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ecfd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ecfd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ecfd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ecfd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ecfd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ecf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4c4f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ecfd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4c4f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ecf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ecf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4c4f60"/>
                  </a:gs>
                  <a:gs pos="100000">
                    <a:srgbClr val="6c71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ecfd8"/>
                  </a:gs>
                  <a:gs pos="100000">
                    <a:srgbClr val="6c71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ecfd8"/>
                  </a:gs>
                  <a:gs pos="100000">
                    <a:srgbClr val="6c71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ecfd8"/>
                  </a:gs>
                  <a:gs pos="100000">
                    <a:srgbClr val="6c71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ecfd8"/>
                  </a:gs>
                  <a:gs pos="100000">
                    <a:srgbClr val="6c71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ecfd8"/>
                  </a:gs>
                  <a:gs pos="100000">
                    <a:srgbClr val="6c71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ecfd8"/>
                  </a:gs>
                  <a:gs pos="100000">
                    <a:srgbClr val="6c71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95058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ebcd5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ebcd5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c4f6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f60"/>
                </a:solidFill>
                <a:latin typeface="Times New Roman"/>
              </a:rPr>
              <a:t>Core</a:t>
            </a:r>
            <a:r>
              <a:rPr b="0" i="1" lang="en-US" sz="1400" spc="-1" strike="noStrike">
                <a:solidFill>
                  <a:srgbClr val="ebcd5d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4c4f60"/>
                </a:solidFill>
                <a:latin typeface="Times New Roman"/>
              </a:rPr>
              <a:t>Youth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ebcd5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60FE-1E63-4FA2-BB30-3CFD0CFD4BDA}" type="slidenum">
              <a:rPr b="0" i="1" lang="en-GB" sz="1400" spc="-1" strike="noStrike">
                <a:solidFill>
                  <a:srgbClr val="ebcd5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aa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0580"/>
                </a:solidFill>
                <a:latin typeface="Comic Sans MS"/>
              </a:rPr>
              <a:t>HISTORY OF YOUTH WORK</a:t>
            </a:r>
            <a:endParaRPr b="0" lang="en-US" sz="4400" spc="-1" strike="noStrike">
              <a:solidFill>
                <a:srgbClr val="95058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002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Core Youth Work Training Programme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aa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Late 18</a:t>
            </a:r>
            <a:r>
              <a:rPr b="0" lang="en-US" sz="3200" spc="-1" strike="noStrike" baseline="30000">
                <a:solidFill>
                  <a:srgbClr val="660066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 early 19</a:t>
            </a:r>
            <a:r>
              <a:rPr b="0" lang="en-US" sz="3200" spc="-1" strike="noStrike" baseline="30000">
                <a:solidFill>
                  <a:srgbClr val="660066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 Century origins of the “Youth Service”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Clubs Formed out of a sense of “Humanitarian Duty”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Boys brigade and Y.M.C.A. interested in the “Spiritual Welfare” of young men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Education Act 1870 saw the creation of “Leisure Time”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aa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1908 – Formation of Boy Scouts movement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1910 – Formation of Girl Guides movement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1914 1918 – World War 1, following this boys and girls clubs formed and the inception of local “JUVENILE ADVISORY PANELS”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aa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1928 – “The Depression” clubs formed for unemployed boys</a:t>
            </a:r>
            <a:endParaRPr b="0" lang="en-US" sz="2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1930 – training courses to study the “Science of working with boys”</a:t>
            </a:r>
            <a:endParaRPr b="0" lang="en-US" sz="2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1939-1945 Area Youth Councils Formed</a:t>
            </a:r>
            <a:endParaRPr b="0" lang="en-US" sz="2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1944 Education Act- statutory youth work came into place</a:t>
            </a:r>
            <a:endParaRPr b="0" lang="en-US" sz="2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1959 – National Service Stops - proposal that youth work could fill the gap</a:t>
            </a:r>
            <a:endParaRPr b="0" lang="en-US" sz="28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aa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1962 – first, two year full-time training course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1968 –riots in Nottinghill, London, Nottingham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Committee to review Youth Work-Albemarle Report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Youth Work recognised as a vehicle for “Social Education”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aa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16002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1970 – full-time training moves from “Youth” to “Youth and Community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First purpose built community centres begin to appear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1980’s – Local authorities highlight a need for services to young people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Documents like “ A Social Strategy for the Eighties” and Working With Young People” appear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aa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1990’s - Youth Forums and Youth Committees spring up with representatives from the main services and agencies meeting with Young People</a:t>
            </a:r>
            <a:endParaRPr b="0" lang="en-US" sz="2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2000’s – HMI report “Youth Work in Scotland” looks at both statutory and voluntary provision and the educational opportunities they provide</a:t>
            </a:r>
            <a:endParaRPr b="0" lang="en-US" sz="28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aa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cd5d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60cd5"/>
                </a:solidFill>
                <a:latin typeface="Comic Sans MS"/>
              </a:rPr>
              <a:t>HISTORY OF YOUTH WORK</a:t>
            </a:r>
            <a:r>
              <a:rPr b="0" lang="en-US" sz="4400" spc="-1" strike="noStrike">
                <a:solidFill>
                  <a:srgbClr val="ebcd5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60cd5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Change continues - Youth work/Youth Learning is an element of the Comm.Ed./ Community Learning and Development degree course.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More and more accreditated training routes are being developed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2:31:54Z</dcterms:created>
  <dc:creator>fc15548 falkirk council</dc:creator>
  <dc:description/>
  <dc:language>en-US</dc:language>
  <cp:lastModifiedBy>fc12808</cp:lastModifiedBy>
  <dcterms:modified xsi:type="dcterms:W3CDTF">2003-11-10T15:35:48Z</dcterms:modified>
  <cp:revision>2</cp:revision>
  <dc:subject/>
  <dc:title>HISTORY OF YOUTH WORK</dc:title>
</cp:coreProperties>
</file>