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360-BD90-42ED-8C86-D9E634C2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048-B8A6-4C16-B4E1-A82D23F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433-DC7D-4D37-94AD-8A706EB6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5D2-CAEE-45BE-A223-B03090E2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1F49-FD73-461B-9BA2-73F779B5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E86B-C0E4-4D10-82F1-BB7A6BA2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75F2-8684-476C-9A06-1816029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6FE4-5475-416A-96C1-3CD60A7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37C8-2BC7-4A44-A2FD-41A0697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8B9F-A007-4770-8E66-0989E4B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8999-CA72-44A7-A111-E4D81CE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FA9-0B53-4CF5-B288-831B4624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5A03-D2A4-48A5-A5CA-D8BA8E1E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3A0F-59DF-4E0A-AD84-E6D4B883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55D6-B094-4212-80B2-9B42C9BD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DF04-B9CE-49AA-ABCB-E878AB77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0A75-E832-401C-9F2D-9E515954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C1C-AA9A-4512-AF06-BBF07D15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62B-BF4A-4E49-BC3B-4A9D4E2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B3E-B7FE-4492-B733-BBE5908E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00E-588E-4E76-B807-FEFCB130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E23-E22D-4737-BF10-2269E58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D5A-F50B-4146-8D3F-7E477E8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389-EB44-483C-BEBA-137066E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6E59-F2F5-4D67-B143-8E1A6B7F2297}" type="datetime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07/30/26</a:t>
            </a:fld>
            <a:r>
              <a:rPr b="0" lang="en-GB" sz="1400" spc="-1" strike="noStrike">
                <a:solidFill>
                  <a:srgbClr val="000099"/>
                </a:solidFill>
                <a:latin typeface="Times New Roman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Training and Staff Development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2114-EE07-4BC6-8B4A-CF0311EB6F74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EC02-FF79-4F18-A244-EC0A65EBA0C0}" type="datetime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E574-0417-4F37-A131-CBBDD2459F65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CORE YOUTH WORK TRAINING PROGRAMME 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SESSIONAL STAFF AND VOLUNTEER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bd05062_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665520" cy="26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F1039D3-1330-441B-BB74-5FD4E544437A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STAGE TWO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(sessions 15 – 22 optional)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Using the Arts to work with Young People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Young People and the Law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Organising a Residential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Organising a Youth Exchange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2F688-66B9-4FD9-9126-C07D53F3BA5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MATERIALS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acilitators’ notes, support materials, reflective diary.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ssion layout in simple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Purpose, process and outcomes for each session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uggested exercises/activities which meet outcomes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lexible and adaptable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72A76-34CD-4819-8499-0528697E8D3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COMMUNICATING WITH YOUNG PEOPLE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ain an awareness of the differing skills used when communicating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nowledge and understanding of the importance of listening skill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erbal and non-verbal commun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dentify blocks to communication between adults and young peop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actical exercises and activitie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5D5C6-5157-4DBC-A192-EBF034494F65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SUPPORT PACK AND TOOLKIT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Awareness of local and national policies and guidelines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Appropriate use of the same in a practical exercise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Identified the benefits of programme planning and activities which are issue based/have identifiable learning outcomes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Practice and develop facilitation skills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2C8F5-FFB0-4C52-ACE9-C212D6E8C85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ROUP WORK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scribe and understand the basic principles of group wor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dentify the range of roles that people adopt within a group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cognise appropriate role of the youth worker in group work setting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istinguish the differing types of group and group work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E265D-6A34-425B-B58E-EC7DF339C28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ONE TO ONE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uild a common understanding of what is meant by one to one work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cognise the value of 1:1 work and understand its relationship within a youth work sett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entify some of the barriers to effective one to one work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entify a range of tools, characteristics, personal qualities for effective work to take plac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B77F3-D935-47E6-9368-0DC0217185E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QUESTIONS?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ccredit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Quality Contro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Assessmen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Promotion outwith the Networ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Further Developments (distance learning materials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35" name="j0078827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2344680" cy="13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C3B68-2758-4487-BD41-0032F030B2B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CORE YOUTH WORK TRAINING PROGRAMME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cruitmen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lec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duc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ore Youth Work (compulsory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ge One ( optional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ge Two (optional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42AB2-5636-4603-A72B-3FC5C23E852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RECRUITMENT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AND SELECTION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cruitment events (1 evening 1w’end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lection interview by Youth learning team staf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vitation to attend training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CB753-1C9D-45D4-BEF9-05F50635E153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RECRUITMENT EVENT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formation re service and tea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pportunities and Challenges for youth worker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raining and Support availab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pplication Pack including case study and information on Disclosure Scotland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4C232-748C-4DF3-8D1F-A441F78F0B3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eginning of the Core Programm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verview of Youth Learning Policy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History of Youth Wor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xploration of what Youth Work i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arification of Further Training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FA453-9353-4EAC-AEBE-F1B4AC6151F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CORE TRAINING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(sessions 1-10 Compulsory)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troductory Training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Youth work in different setting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ommunicating with young peop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onfidentiality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omoting particip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88B57-EC65-4D6A-BB2C-4DDF30997E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CORE TRAINING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(sessions 1-10 Compulsory)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Planning, organising, evaluating &amp; recording youth work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upport pack and toolkit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Duty of care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Diversity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Youth and Literacies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C0DA5-B266-45F8-BD29-D62FCD4810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STAGE ONE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(session 11 – 14 optional)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Group Work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Working in a team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onflict resolution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Learning Styles in Youth Work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CEDC1-7525-4CE6-8213-B446170B8D4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STAGE TWO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(sessions 15 – 22 optional)</a:t>
            </a:r>
            <a:endParaRPr b="0" lang="en-US" sz="2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I.C.T. and working with Young People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One to One work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Sexual Health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Drugs, Alcohol and Young People</a:t>
            </a: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C4403-C2AC-4755-91E2-29F501FDA37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2:10:48Z</dcterms:created>
  <dc:creator>fc15548 falkirk council</dc:creator>
  <dc:description/>
  <dc:language>en-US</dc:language>
  <cp:lastModifiedBy>fc15548 falkirk council</cp:lastModifiedBy>
  <dcterms:modified xsi:type="dcterms:W3CDTF">2003-07-04T09:10:46Z</dcterms:modified>
  <cp:revision>16</cp:revision>
  <dc:subject/>
  <dc:title>CORE YOUTH WORK TRAINING PROGRAMME </dc:title>
</cp:coreProperties>
</file>