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2D50-DE34-4344-817A-E4581425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CD2D-5850-459F-B68A-5B48E5EE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38A5-09D5-46F9-A331-3B0963B8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5058-4D24-467A-8ACB-E2830A93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ACF6-4721-4828-A428-DCAC1109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3D2-FF09-4814-B4D0-FEB5F4D4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B49-F0D8-40DE-845F-7F78071A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EA7F-CEC8-490D-8C01-60B101A0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243-FA63-433B-96AC-1FCCD475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BC91-F3D0-4359-ACE8-75C242B4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FB42-FA74-46FE-A4B9-78077A90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6BB8-9597-4167-9134-A2BF6056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DA0F-CB06-4F87-AC8F-3766906FB7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6.wmf"/><Relationship Id="rId3" Type="http://schemas.openxmlformats.org/officeDocument/2006/relationships/image" Target="../media/image2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6720" y="3657600"/>
            <a:ext cx="2543400" cy="923760"/>
          </a:xfrm>
          <a:prstGeom prst="wedgeRoundRectCallout">
            <a:avLst>
              <a:gd name="adj1" fmla="val -44069"/>
              <a:gd name="adj2" fmla="val 16924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ency FB"/>
              </a:rPr>
              <a:t>We must stick up for our rights…………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1447920" cy="1219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228600"/>
            <a:ext cx="2438280" cy="762120"/>
          </a:xfrm>
          <a:prstGeom prst="wedgeRoundRectCallout">
            <a:avLst>
              <a:gd name="adj1" fmla="val -54101"/>
              <a:gd name="adj2" fmla="val 1179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report has to be done by Tuesday and have you done this …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990720"/>
            <a:ext cx="1371600" cy="1066680"/>
          </a:xfrm>
          <a:prstGeom prst="cloudCallout">
            <a:avLst>
              <a:gd name="adj1" fmla="val -82407"/>
              <a:gd name="adj2" fmla="val 447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0120" y="4191120"/>
            <a:ext cx="1371600" cy="10666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2400" y="685800"/>
            <a:ext cx="1371600" cy="10666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3886200"/>
            <a:ext cx="1371600" cy="10666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914400"/>
            <a:ext cx="106668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48200" y="1276200"/>
            <a:ext cx="838440" cy="3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304920"/>
            <a:ext cx="2514600" cy="685800"/>
          </a:xfrm>
          <a:prstGeom prst="wedgeRoundRectCallout">
            <a:avLst>
              <a:gd name="adj1" fmla="val -31629"/>
              <a:gd name="adj2" fmla="val 7268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n, Rain, moan, moan, young vandals blah, blah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78520" y="1919160"/>
            <a:ext cx="1274760" cy="1128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400800" y="5261040"/>
            <a:ext cx="1233360" cy="129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676520" y="2057400"/>
            <a:ext cx="1311120" cy="1066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28600" y="4780080"/>
            <a:ext cx="1087560" cy="1849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1828800" y="5292720"/>
            <a:ext cx="1434960" cy="1336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90720" y="3429000"/>
            <a:ext cx="1218960" cy="1600200"/>
          </a:xfrm>
          <a:prstGeom prst="wedgeRoundRectCallout">
            <a:avLst>
              <a:gd name="adj1" fmla="val -37500"/>
              <a:gd name="adj2" fmla="val 7013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have been at the party Joanne and Bob were there we had such a laug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2958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572000" y="1219320"/>
            <a:ext cx="1393920" cy="1819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248520" y="1828800"/>
            <a:ext cx="0" cy="12193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4586400" y="4780080"/>
            <a:ext cx="1738080" cy="1773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ssion 3: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ubble Exercis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Worksh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228600"/>
            <a:ext cx="2362320" cy="838080"/>
          </a:xfrm>
          <a:prstGeom prst="wedgeRoundRectCallout">
            <a:avLst>
              <a:gd name="adj1" fmla="val -50740"/>
              <a:gd name="adj2" fmla="val 10738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raffic today was a nightmare, what a day I have  had…blah..blah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457200"/>
            <a:ext cx="1905120" cy="1295280"/>
          </a:xfrm>
          <a:prstGeom prst="wedgeRoundRectCallout">
            <a:avLst>
              <a:gd name="adj1" fmla="val -49916"/>
              <a:gd name="adj2" fmla="val 9546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, we were all out on Friday and my mate went off and …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990720"/>
            <a:ext cx="1752480" cy="1066680"/>
          </a:xfrm>
          <a:prstGeom prst="cloudCallout">
            <a:avLst>
              <a:gd name="adj1" fmla="val -65851"/>
              <a:gd name="adj2" fmla="val 812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72400" y="685800"/>
            <a:ext cx="1371600" cy="1828800"/>
          </a:xfrm>
          <a:prstGeom prst="cloudCallout">
            <a:avLst>
              <a:gd name="adj1" fmla="val -77777"/>
              <a:gd name="adj2" fmla="val 560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86280" y="1663560"/>
            <a:ext cx="1362240" cy="1308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023240" y="2397240"/>
            <a:ext cx="1434960" cy="1336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620720" y="2376360"/>
            <a:ext cx="1274760" cy="1128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hich of the pictures is the young person actually listening.  Put into the ’bubble’ the thought that may be going through their m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562720"/>
            <a:ext cx="9144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52280" y="1603440"/>
            <a:ext cx="1292400" cy="1825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ssion 3: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ubble Exercis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Worksh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4:07:33Z</dcterms:created>
  <dc:creator>Laurie Lee Miller</dc:creator>
  <dc:description/>
  <dc:language>en-US</dc:language>
  <cp:lastModifiedBy>fc12808</cp:lastModifiedBy>
  <dcterms:modified xsi:type="dcterms:W3CDTF">2004-04-28T14:01:15Z</dcterms:modified>
  <cp:revision>12</cp:revision>
  <dc:subject/>
  <dc:title>PowerPoint Presentation</dc:title>
</cp:coreProperties>
</file>