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575-E84C-47E3-A20F-FD3BC8E4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691-2AAA-4201-8D21-99BCE9FC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ED0-F171-4244-B95B-C9D45886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EED-F6ED-44B3-9C38-C2C7C251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834-0B92-4C15-853B-1BE90365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0B4-B6F4-4A52-B142-EDF88A7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34F-A38C-4E98-A028-19D05C6F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375-EB30-4A0B-B352-D8714BE7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7E0-AFC0-47CF-B269-199850D2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207-F5B8-440D-AFED-2A20B7F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023-B531-416B-9B92-73D66350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454-6D6A-4CE7-BCC0-1CF167C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9FB-6DD6-4B10-B1FA-4E9FAC3A6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Comic Sans MS"/>
              </a:rPr>
              <a:t>Duty of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hil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(Session 8: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Child Protection Legi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Underpinned by principles derived from the Articles from the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United Nations Convention on the Rights of th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urrent Scottish Legislation</a:t>
            </a:r>
            <a:br>
              <a:rPr sz="4000"/>
            </a:b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unded on the following principles and t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Each Child has the right to be treated as an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Each Child who can form their own views on matters affecting them has the right to express those views if they w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ents should normally be responsible for the upbringing of their childr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urrent Scottish Legislation</a:t>
            </a:r>
            <a:br>
              <a:rPr sz="4000"/>
            </a:b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-founded on the following principles and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Each Child has the right to protection form all forms of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n decisions relating to protection from abuse every effort should be made to keep the child in the family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ny intervention should be properly justified and supported by all relevant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hildren (Scotland) Act 19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lters the traditional concept of parents having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rights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over their children to one where parents have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responsibilities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towards their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Ensures that children are consulted and their wishes and views are taken into conside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hildren (Scotland) Act 19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Main themes of the 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welfare of the child is the paramount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child’s view should be taken into account where major decisions are being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o court order should be made unless it is better for the child than no order being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hildren (Scotland) Act 19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further theme which runs through the Act and which is contained within the Scottish Executive guidance is that while the Police and the Local Authority continue to have a lead role in child protection, there is a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“corporate responsibility”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r all agencies that deal with children to participate in protective mea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4:23:50Z</dcterms:created>
  <dc:creator>fc15548 falkirk council</dc:creator>
  <dc:description/>
  <dc:language>en-US</dc:language>
  <cp:lastModifiedBy>fc15548 falkirk council</cp:lastModifiedBy>
  <dcterms:modified xsi:type="dcterms:W3CDTF">2004-05-07T09:16:02Z</dcterms:modified>
  <cp:revision>3</cp:revision>
  <dc:subject/>
  <dc:title>Duty of Care</dc:title>
</cp:coreProperties>
</file>